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ADF-13C1-47FF-91C5-ECE02CB9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8CD-2294-4883-AFE4-9865F9C9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E20-661A-48E3-B0EC-ACA8805B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EB4-038F-493A-9CBE-E2371EEF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5FA-FA9D-47D8-AF13-56700BF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59C-DFC7-42CF-9F26-AB48CE8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FE7-2966-4A15-A678-C53A083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F86-4679-45CB-9B59-2C95BEAF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C3C-D55B-45ED-8367-4003CC23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519-0501-4CE4-8764-4117A89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C76-57A4-4A95-83AF-43D8497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B2C-C6E7-41CE-817B-B81A57A3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BB11-2A29-49EE-9908-69C90697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Linear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6243480" cy="2408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943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261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6095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heck (0,0) just to be sur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1066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Graph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S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TEST with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352680" cy="579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4368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14800" cy="58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26360" y="4908600"/>
            <a:ext cx="2184120" cy="156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5486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248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odeling Real-World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7619760" cy="83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601992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82296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79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2578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971800" cy="200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8600" y="2590920"/>
            <a:ext cx="60958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366920"/>
            <a:ext cx="8686800" cy="358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19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2:06:40Z</dcterms:created>
  <dc:creator>Susannah Graham</dc:creator>
  <dc:description/>
  <dc:language>en-US</dc:language>
  <cp:lastModifiedBy>BRSD</cp:lastModifiedBy>
  <dcterms:modified xsi:type="dcterms:W3CDTF">2010-04-06T13:16:51Z</dcterms:modified>
  <cp:revision>4</cp:revision>
  <dc:subject/>
  <dc:title>Lesson 7.5 Linear Inequalities</dc:title>
</cp:coreProperties>
</file>